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07933-A6AA-4B8B-AAE8-C36D02E9DC8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mas Jeffer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views on Government, Economics and Human N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fferson and Foreign Re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Women, Blacks and Opportu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Thomas Jefferson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His views on Government, Economics and Human Nature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Jefferson and Foreign Relations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On Women, Blacks and Opportunity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mas Jeffer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rn into a family of weal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represents the Republicans party, they are strict constructionists and supporters of state govern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Thomas Jefferson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Born into a family of wealth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He represents the Republicans party, they are strict constructionists and supporters of state governments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fferson’s View on Govern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supporter of state’s righ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had witnessed the abuses of European k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fferson believes that state governments represent the people bett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Jefferson’s View on Government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Strong supporter of state’s rights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He had witnessed the abuses of European kings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Jefferson believes that state governments represent the people better 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grarian Ec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believes that we should be a nation of farm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mers are less likely to be corrupt and self-serving like merchants and business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mers are tied to the land and self suffici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An Agrarian Economy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He believes that we should be a nation of farmers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Farmers are less likely to be corrupt and self-serving like merchants and businessmen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Farmers are tied to the land and self sufficient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ew on Human N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lieved that the “people” as long as they were educated could be trusted with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“citizen” according to Jefferson was the bastion of democra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View on Human Nature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Believed that the “people” as long as they were educated could be trusted with power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The “citizen” according to Jefferson was the bastion of democracy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ughts on Foreign Re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orted the French Revolution because it was a revolt of the poor class against the monarchy and the 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volution turns bloody but Republicans still support 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ctions horrified the Washington Presid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Thoughts on Foreign Relations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Supported the French Revolution because it was a revolt of the poor class against the monarchy and the elites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The Revolution turns bloody but Republicans still support it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These actions horrified the Washington Presidency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rench R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The French Revolution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rench R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The French Revolution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ews on Opportu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struggled with the pure thought of politically equa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men he believed were too innocent, blacks weak minded and Indians were a hindrance to progr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white males participate in governm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Views on Opportunity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He struggled with the pure thought of politically equality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Women he believed were too innocent, blacks weak minded and Indians were a hindrance to progress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Only white males participate in government 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55D8-618C-4525-B8CD-03E30AE96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8E79-0DD2-4DB7-968C-5E331F532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36A3-63C7-4965-AC17-9DD9473ED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5B4D-8FFE-4503-B921-DF5BBD6BE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4BF8-9737-4C8B-B0D9-4230B8A2E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AD62-2BEE-4F93-9631-976A89513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BEE0-2257-4A0F-9284-438648F88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79E1-C696-4872-97CC-7944BCA0C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34B7-A9F1-4F0C-BCE5-496F570EA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79D0-96A9-4E74-B52B-CCB8B03D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4357-5E54-43D5-BBCD-4F19E02A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D4A6-7704-4CD9-B508-64A39F59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5BAB6-B7C0-4F45-874E-E71ABA4FD92E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metmuseum.org/works_of_art/viewOnezoom.asp?dep=2&amp;zoomFlag=1&amp;viewmode=0&amp;item=62%2E79%2E2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5241"/>
                </a:solidFill>
                <a:latin typeface="Times New Roman"/>
              </a:rPr>
              <a:t>Thomas Jefferson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His views on Government, Economics and Human Nature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Jefferson and Foreign Relations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On Women, Blacks and Opportunity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5241"/>
                </a:solidFill>
                <a:latin typeface="Times New Roman"/>
              </a:rPr>
              <a:t>Thomas Jefferson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Born into a family of wealth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He represents the Republicans party, they are strict constructionists and supporters of state government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53" name="Picture 11" descr="http://www.gwu.edu/~ffcp/exhibit/p9/p9_2amed.jpg"/>
          <p:cNvPicPr/>
          <p:nvPr/>
        </p:nvPicPr>
        <p:blipFill>
          <a:blip r:embed="rId1"/>
          <a:stretch/>
        </p:blipFill>
        <p:spPr>
          <a:xfrm>
            <a:off x="5068800" y="1981080"/>
            <a:ext cx="327204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5241"/>
                </a:solidFill>
                <a:latin typeface="Times New Roman"/>
              </a:rPr>
              <a:t>Jefferson’s View on Governmen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Strong supporter of state’s right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He had witnessed the abuses of European king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Jefferson believes that state governments represent the people better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57" name="Picture 7" descr="http://rds.yahoo.com/S=96062883/K=capital+hill/v=2/SID=e/l=IVS/SIG=12fjboh8t/EXP=1105578179/*-http%3A//www.rotary5520.org/eastelpaso/Capital%20Hill%20I.jpg"/>
          <p:cNvPicPr/>
          <p:nvPr/>
        </p:nvPicPr>
        <p:blipFill>
          <a:blip r:embed="rId1"/>
          <a:stretch/>
        </p:blipFill>
        <p:spPr>
          <a:xfrm>
            <a:off x="5072040" y="1981080"/>
            <a:ext cx="330984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5241"/>
                </a:solidFill>
                <a:latin typeface="Times New Roman"/>
              </a:rPr>
              <a:t>An Agrarian Economy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He believes that we should be a nation of farmer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Farmers are less likely to be corrupt and self-serving like merchants and businessmen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Farmers are tied to the land and self sufficient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61" name="Picture 7" descr="http://www.currierandives.info/Americana/American-farm.gif"/>
          <p:cNvPicPr/>
          <p:nvPr/>
        </p:nvPicPr>
        <p:blipFill>
          <a:blip r:embed="rId1"/>
          <a:stretch/>
        </p:blipFill>
        <p:spPr>
          <a:xfrm>
            <a:off x="4648320" y="2209680"/>
            <a:ext cx="3809880" cy="3657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5241"/>
                </a:solidFill>
                <a:latin typeface="Times New Roman"/>
              </a:rPr>
              <a:t>View on Human Nature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Believed that the “people” as long as they were educated could be trusted with power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The “citizen” according to Jefferson was the bastion of democracy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65" name="Picture 7" descr="http://rds.yahoo.com/S=96062883/K=thomas+jefferson/v=2/SID=e/l=IVI/SIG=13ks8u0l2/EXP=1105584502/*-http%3A//oncampus.richmond.edu/academics/education/projects/webquests/patriot/images/jefferson.jpg"/>
          <p:cNvPicPr/>
          <p:nvPr/>
        </p:nvPicPr>
        <p:blipFill>
          <a:blip r:embed="rId1"/>
          <a:stretch/>
        </p:blipFill>
        <p:spPr>
          <a:xfrm>
            <a:off x="4857840" y="1981080"/>
            <a:ext cx="339084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5241"/>
                </a:solidFill>
                <a:latin typeface="Times New Roman"/>
              </a:rPr>
              <a:t>Thoughts on Foreign Relations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Supported the French Revolution because it was a revolt of the poor class against the monarchy and the elite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The Revolution turns bloody but Republicans still support it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These actions horrified the Washington Presidency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69" name="Picture 11" descr="http://rds.yahoo.com/S=96062883/K=louis+xvi/v=2/SID=e/l=IVS/SIG=121auhv1h/EXP=1105582607/*-http%3A//www.paulauger.com/images/Louis16LG.gif"/>
          <p:cNvPicPr/>
          <p:nvPr/>
        </p:nvPicPr>
        <p:blipFill>
          <a:blip r:embed="rId1"/>
          <a:stretch/>
        </p:blipFill>
        <p:spPr>
          <a:xfrm>
            <a:off x="5114880" y="1981080"/>
            <a:ext cx="326700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5241"/>
                </a:solidFill>
                <a:latin typeface="Times New Roman"/>
              </a:rPr>
              <a:t>The French Revolution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73" name="Picture 7" descr="http://rds.yahoo.com/S=96062883/K=french+revolution/v=2/SID=e/l=IVS/SIG=134qi84le/EXP=1105582948/*-http%3A//academic.brooklyn.cuny.edu/history/virtual/portrait/louis16-execution.jpg"/>
          <p:cNvPicPr/>
          <p:nvPr/>
        </p:nvPicPr>
        <p:blipFill>
          <a:blip r:embed="rId1"/>
          <a:stretch/>
        </p:blipFill>
        <p:spPr>
          <a:xfrm>
            <a:off x="609480" y="1981080"/>
            <a:ext cx="347832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74" name="Picture 11" descr="http://www.stormfront.org/whitehistory/hwr27_files/naphorse.jpg"/>
          <p:cNvPicPr/>
          <p:nvPr/>
        </p:nvPicPr>
        <p:blipFill>
          <a:blip r:embed="rId2"/>
          <a:stretch/>
        </p:blipFill>
        <p:spPr>
          <a:xfrm>
            <a:off x="4800600" y="2057400"/>
            <a:ext cx="365760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5241"/>
                </a:solidFill>
                <a:latin typeface="Times New Roman"/>
              </a:rPr>
              <a:t>The French Revolution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78" name="Picture 1033" descr="http://members.tripod.com/~Motomom/Guillotine.jpg"/>
          <p:cNvPicPr/>
          <p:nvPr/>
        </p:nvPicPr>
        <p:blipFill>
          <a:blip r:embed="rId1"/>
          <a:stretch/>
        </p:blipFill>
        <p:spPr>
          <a:xfrm>
            <a:off x="5181480" y="2057400"/>
            <a:ext cx="3353040" cy="4038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79" name="Picture 1037" descr="http://fr.wikipedia.org/upload/3/3a/Dessin_prise_de_la_Bastille.jpg"/>
          <p:cNvPicPr/>
          <p:nvPr/>
        </p:nvPicPr>
        <p:blipFill>
          <a:blip r:embed="rId2"/>
          <a:stretch/>
        </p:blipFill>
        <p:spPr>
          <a:xfrm>
            <a:off x="685800" y="2057400"/>
            <a:ext cx="3886200" cy="4038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5241"/>
                </a:solidFill>
                <a:latin typeface="Times New Roman"/>
              </a:rPr>
              <a:t>Views on Opportunity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He struggled with the pure thought of politically equality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Women he believed were too innocent, blacks weak minded and Indians were a hindrance to progres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Only white males participate in government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83" name="Picture 11" descr="Click to zoom">
            <a:hlinkClick r:id="rId1"/>
          </p:cNvPr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4911840" y="1981080"/>
            <a:ext cx="328284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00:11:38Z</dcterms:created>
  <dc:creator>Preferred Customer</dc:creator>
  <dc:description/>
  <dc:language>en-US</dc:language>
  <cp:lastModifiedBy>Legion</cp:lastModifiedBy>
  <dcterms:modified xsi:type="dcterms:W3CDTF">2017-07-06T06:44:26Z</dcterms:modified>
  <cp:revision>17</cp:revision>
  <dc:subject/>
  <dc:title>Thomas Jefferson</dc:title>
</cp:coreProperties>
</file>